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40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57.png" ContentType="image/png"/>
  <Override PartName="/ppt/media/image20.png" ContentType="image/png"/>
  <Override PartName="/ppt/media/image14.png" ContentType="image/png"/>
  <Override PartName="/ppt/media/image16.png" ContentType="image/png"/>
  <Override PartName="/ppt/media/image10.png" ContentType="image/png"/>
  <Override PartName="/ppt/media/image47.png" ContentType="image/png"/>
  <Override PartName="/ppt/media/image6.jpeg" ContentType="image/jpeg"/>
  <Override PartName="/ppt/media/image60.png" ContentType="image/png"/>
  <Override PartName="/ppt/media/image18.png" ContentType="image/png"/>
  <Override PartName="/ppt/media/image2.jpeg" ContentType="image/jpeg"/>
  <Override PartName="/ppt/media/image31.png" ContentType="image/png"/>
  <Override PartName="/ppt/media/image29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32.png" ContentType="image/png"/>
  <Override PartName="/ppt/media/image34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4.jpeg" ContentType="image/jpeg"/>
  <Override PartName="/ppt/media/image51.png" ContentType="image/png"/>
  <Override PartName="/ppt/media/image52.png" ContentType="image/png"/>
  <Override PartName="/ppt/media/image53.png" ContentType="image/png"/>
  <Override PartName="/ppt/media/image5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F573-8994-4F70-BD2B-6CEC6C7E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75088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97160" y="4586400"/>
            <a:ext cx="75088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5F0-988E-4E32-8776-AC6C667D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44840" y="24858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97160" y="45864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44840" y="45864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54A-D16F-4586-9F7B-F1C17A89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24177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36240" y="2485800"/>
            <a:ext cx="24177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2485800"/>
            <a:ext cx="24177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97160" y="4586400"/>
            <a:ext cx="24177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36240" y="4586400"/>
            <a:ext cx="24177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4586400"/>
            <a:ext cx="24177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976-2409-434A-8C83-AE3919E1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AF65-61C0-46F7-89C2-5A8C0741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97160" y="2485800"/>
            <a:ext cx="75088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FCB8-0455-41B5-B1A9-79E15E53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75088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367D-484E-4475-B992-28D8A18D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36640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44840" y="2485800"/>
            <a:ext cx="36640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F936-8BBD-49ED-8CBA-9489587B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26FE3-52EC-4E26-B06A-AC91F303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10840" y="466560"/>
            <a:ext cx="2784600" cy="93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295D-D94B-48D8-9ACE-5F56796F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4840" y="2485800"/>
            <a:ext cx="36640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97160" y="45864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E3B0-5757-4433-A700-44775DEE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97160" y="2485800"/>
            <a:ext cx="75088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6488-CE9B-4B9F-A1BF-A1CD84E6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36640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44840" y="24858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44840" y="45864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52F4-07FE-4A99-AC1F-539758CE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44840" y="24858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97160" y="4586400"/>
            <a:ext cx="75088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FA3C-DAFD-4BDF-ABE4-FC5B3105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75088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97160" y="4586400"/>
            <a:ext cx="75088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1F40-11F9-47B2-8907-9C1267CC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44840" y="24858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97160" y="45864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44840" y="45864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90F6-D8B1-4F3C-A900-FB32839E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24177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36240" y="2485800"/>
            <a:ext cx="24177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75320" y="2485800"/>
            <a:ext cx="24177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97160" y="4586400"/>
            <a:ext cx="24177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36240" y="4586400"/>
            <a:ext cx="24177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75320" y="4586400"/>
            <a:ext cx="241776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5F9B-3BF4-4600-A210-8F3ED64B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75088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0E90-E2A4-439C-B19B-A24A6A1A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36640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44840" y="2485800"/>
            <a:ext cx="36640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512-BCD3-4D06-8BB4-B5E39CCD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4C5-69B4-4FD7-8F80-CAE53601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10840" y="466560"/>
            <a:ext cx="2784600" cy="93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7FF3-4393-4EB0-B101-C7CA3FA2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44840" y="2485800"/>
            <a:ext cx="36640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97160" y="45864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C32B-9C53-48E7-9DC8-D306E331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36640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44840" y="24858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44840" y="45864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726-152F-4C34-B6FC-AFA01A9D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97160" y="24858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4840" y="2485800"/>
            <a:ext cx="36640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97160" y="4586400"/>
            <a:ext cx="7508880" cy="19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EE38-3D0C-423A-9F30-ECA2B186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bg object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bg object 17"/>
          <p:cNvSpPr/>
          <p:nvPr/>
        </p:nvSpPr>
        <p:spPr>
          <a:xfrm>
            <a:off x="0" y="0"/>
            <a:ext cx="104760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97160" y="2485800"/>
            <a:ext cx="75088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57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429840" y="6420960"/>
            <a:ext cx="17316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B000-1F95-4855-8A97-21BC888774AD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bg object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10840" y="466560"/>
            <a:ext cx="2784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97160" y="2485800"/>
            <a:ext cx="7508880" cy="40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252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575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429840" y="6420960"/>
            <a:ext cx="17316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BCF0-4A90-45D1-B39B-66FE56000032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5.png"/><Relationship Id="rId3" Type="http://schemas.openxmlformats.org/officeDocument/2006/relationships/image" Target="../media/image3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2.png"/><Relationship Id="rId3" Type="http://schemas.openxmlformats.org/officeDocument/2006/relationships/image" Target="../media/image26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1.png"/><Relationship Id="rId3" Type="http://schemas.openxmlformats.org/officeDocument/2006/relationships/image" Target="../media/image11.png"/><Relationship Id="rId4" Type="http://schemas.openxmlformats.org/officeDocument/2006/relationships/hyperlink" Target="mailto:istok_achair@mail.ru" TargetMode="External"/><Relationship Id="rId5" Type="http://schemas.openxmlformats.org/officeDocument/2006/relationships/hyperlink" Target="http://rmc55.omsk.obr55.ru/" TargetMode="Externa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1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png"/><Relationship Id="rId3" Type="http://schemas.openxmlformats.org/officeDocument/2006/relationships/image" Target="../media/image11.png"/><Relationship Id="rId4" Type="http://schemas.openxmlformats.org/officeDocument/2006/relationships/image" Target="../media/image1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bject 2"/>
          <p:cNvSpPr/>
          <p:nvPr/>
        </p:nvSpPr>
        <p:spPr>
          <a:xfrm>
            <a:off x="1752480" y="252360"/>
            <a:ext cx="72392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spAutoFit/>
          </a:bodyPr>
          <a:p>
            <a:pPr marL="1260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Бюджетное учреждение Омской области дополнительного образования «Центр духовно-нравственного воспитания «Исток» 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600"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  <a:ea typeface="Arial"/>
              </a:rPr>
              <a:t>Региональный модельный центр дополнительного образования детей Ом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bject 3"/>
          <p:cNvSpPr/>
          <p:nvPr/>
        </p:nvSpPr>
        <p:spPr>
          <a:xfrm>
            <a:off x="795240" y="2666880"/>
            <a:ext cx="7551720" cy="21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t">
            <a:spAutoFit/>
          </a:bodyPr>
          <a:p>
            <a:pPr marL="12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Методические рекомендации по работе с модулем «Заявки» Региональной информационной системы «Навигатор дополнительного образования Омской облас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304920" y="361800"/>
            <a:ext cx="134784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4114800" y="6102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робьев Никита Александрович, методист РМЦ ДОД Ом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2"/>
          <a:stretch/>
        </p:blipFill>
        <p:spPr>
          <a:xfrm>
            <a:off x="304920" y="35712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object 6"/>
          <p:cNvSpPr/>
          <p:nvPr/>
        </p:nvSpPr>
        <p:spPr>
          <a:xfrm>
            <a:off x="380880" y="6421320"/>
            <a:ext cx="25560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28AF-A4D4-4108-BF44-C3729FA08A20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88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"/>
          <p:cNvSpPr/>
          <p:nvPr/>
        </p:nvSpPr>
        <p:spPr>
          <a:xfrm>
            <a:off x="1271520" y="1355760"/>
            <a:ext cx="34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Название учеб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4" descr=""/>
          <p:cNvPicPr/>
          <p:nvPr/>
        </p:nvPicPr>
        <p:blipFill>
          <a:blip r:embed="rId2"/>
          <a:stretch/>
        </p:blipFill>
        <p:spPr>
          <a:xfrm>
            <a:off x="1752480" y="2001960"/>
            <a:ext cx="6705720" cy="4403520"/>
          </a:xfrm>
          <a:prstGeom prst="rect">
            <a:avLst/>
          </a:prstGeom>
          <a:ln w="0">
            <a:noFill/>
          </a:ln>
        </p:spPr>
      </p:pic>
      <p:grpSp>
        <p:nvGrpSpPr>
          <p:cNvPr id="191" name="TextBox 9"/>
          <p:cNvGrpSpPr/>
          <p:nvPr/>
        </p:nvGrpSpPr>
        <p:grpSpPr>
          <a:xfrm>
            <a:off x="1090440" y="36360"/>
            <a:ext cx="8034480" cy="957240"/>
            <a:chOff x="1090440" y="36360"/>
            <a:chExt cx="8034480" cy="957240"/>
          </a:xfrm>
        </p:grpSpPr>
        <p:pic>
          <p:nvPicPr>
            <p:cNvPr id="192" name="TextBox 9" descr=""/>
            <p:cNvPicPr/>
            <p:nvPr/>
          </p:nvPicPr>
          <p:blipFill>
            <a:blip r:embed="rId3"/>
            <a:stretch/>
          </p:blipFill>
          <p:spPr>
            <a:xfrm>
              <a:off x="1090440" y="36360"/>
              <a:ext cx="8034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143000" y="8424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TextBox 8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195" name="TextBox 8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99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1436040" y="1352520"/>
            <a:ext cx="60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Сколько всего заявок поступило в данную груп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4" descr=""/>
          <p:cNvPicPr/>
          <p:nvPr/>
        </p:nvPicPr>
        <p:blipFill>
          <a:blip r:embed="rId2"/>
          <a:stretch/>
        </p:blipFill>
        <p:spPr>
          <a:xfrm>
            <a:off x="1844640" y="2057400"/>
            <a:ext cx="6537240" cy="4191120"/>
          </a:xfrm>
          <a:prstGeom prst="rect">
            <a:avLst/>
          </a:prstGeom>
          <a:ln w="0">
            <a:noFill/>
          </a:ln>
        </p:spPr>
      </p:pic>
      <p:grpSp>
        <p:nvGrpSpPr>
          <p:cNvPr id="202" name="TextBox 10"/>
          <p:cNvGrpSpPr/>
          <p:nvPr/>
        </p:nvGrpSpPr>
        <p:grpSpPr>
          <a:xfrm>
            <a:off x="1103400" y="36360"/>
            <a:ext cx="7954920" cy="957240"/>
            <a:chOff x="1103400" y="36360"/>
            <a:chExt cx="7954920" cy="957240"/>
          </a:xfrm>
        </p:grpSpPr>
        <p:pic>
          <p:nvPicPr>
            <p:cNvPr id="203" name="TextBox 10" descr=""/>
            <p:cNvPicPr/>
            <p:nvPr/>
          </p:nvPicPr>
          <p:blipFill>
            <a:blip r:embed="rId3"/>
            <a:stretch/>
          </p:blipFill>
          <p:spPr>
            <a:xfrm>
              <a:off x="1103400" y="36360"/>
              <a:ext cx="79549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157400" y="84240"/>
              <a:ext cx="784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TextBox 8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206" name="TextBox 8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11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386720" y="104472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Сколько заявок было подтвержд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4" descr=""/>
          <p:cNvPicPr/>
          <p:nvPr/>
        </p:nvPicPr>
        <p:blipFill>
          <a:blip r:embed="rId2"/>
          <a:stretch/>
        </p:blipFill>
        <p:spPr>
          <a:xfrm>
            <a:off x="2004840" y="1679400"/>
            <a:ext cx="6301080" cy="4605480"/>
          </a:xfrm>
          <a:prstGeom prst="rect">
            <a:avLst/>
          </a:prstGeom>
          <a:ln w="0">
            <a:noFill/>
          </a:ln>
        </p:spPr>
      </p:pic>
      <p:grpSp>
        <p:nvGrpSpPr>
          <p:cNvPr id="214" name="TextBox 9"/>
          <p:cNvGrpSpPr/>
          <p:nvPr/>
        </p:nvGrpSpPr>
        <p:grpSpPr>
          <a:xfrm>
            <a:off x="1085760" y="55440"/>
            <a:ext cx="8039160" cy="962280"/>
            <a:chOff x="1085760" y="55440"/>
            <a:chExt cx="8039160" cy="962280"/>
          </a:xfrm>
        </p:grpSpPr>
        <p:pic>
          <p:nvPicPr>
            <p:cNvPr id="215" name="TextBox 9" descr=""/>
            <p:cNvPicPr/>
            <p:nvPr/>
          </p:nvPicPr>
          <p:blipFill>
            <a:blip r:embed="rId3"/>
            <a:stretch/>
          </p:blipFill>
          <p:spPr>
            <a:xfrm>
              <a:off x="1085760" y="55440"/>
              <a:ext cx="803916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1143000" y="10476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TextBox 8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218" name="TextBox 8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23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1466280" y="121608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. Сколько детей уже обучается в данной групп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4" descr=""/>
          <p:cNvPicPr/>
          <p:nvPr/>
        </p:nvPicPr>
        <p:blipFill>
          <a:blip r:embed="rId2"/>
          <a:stretch/>
        </p:blipFill>
        <p:spPr>
          <a:xfrm>
            <a:off x="1600200" y="1905120"/>
            <a:ext cx="6934320" cy="4281480"/>
          </a:xfrm>
          <a:prstGeom prst="rect">
            <a:avLst/>
          </a:prstGeom>
          <a:ln w="0">
            <a:noFill/>
          </a:ln>
        </p:spPr>
      </p:pic>
      <p:grpSp>
        <p:nvGrpSpPr>
          <p:cNvPr id="226" name="TextBox 9"/>
          <p:cNvGrpSpPr/>
          <p:nvPr/>
        </p:nvGrpSpPr>
        <p:grpSpPr>
          <a:xfrm>
            <a:off x="1090440" y="96840"/>
            <a:ext cx="7986960" cy="957240"/>
            <a:chOff x="1090440" y="96840"/>
            <a:chExt cx="7986960" cy="957240"/>
          </a:xfrm>
        </p:grpSpPr>
        <p:pic>
          <p:nvPicPr>
            <p:cNvPr id="227" name="TextBox 9" descr=""/>
            <p:cNvPicPr/>
            <p:nvPr/>
          </p:nvPicPr>
          <p:blipFill>
            <a:blip r:embed="rId3"/>
            <a:stretch/>
          </p:blipFill>
          <p:spPr>
            <a:xfrm>
              <a:off x="1090440" y="96840"/>
              <a:ext cx="79869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143000" y="146160"/>
              <a:ext cx="7877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TextBox 8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230" name="TextBox 8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35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1453320" y="961920"/>
            <a:ext cx="62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нные заявителя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О родителя (законного представителя) ребён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тактные да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ФИО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5" descr=""/>
          <p:cNvPicPr/>
          <p:nvPr/>
        </p:nvPicPr>
        <p:blipFill>
          <a:blip r:embed="rId2"/>
          <a:stretch/>
        </p:blipFill>
        <p:spPr>
          <a:xfrm>
            <a:off x="1981080" y="2225520"/>
            <a:ext cx="6400800" cy="4195800"/>
          </a:xfrm>
          <a:prstGeom prst="rect">
            <a:avLst/>
          </a:prstGeom>
          <a:ln w="0">
            <a:noFill/>
          </a:ln>
        </p:spPr>
      </p:pic>
      <p:grpSp>
        <p:nvGrpSpPr>
          <p:cNvPr id="238" name="TextBox 8"/>
          <p:cNvGrpSpPr/>
          <p:nvPr/>
        </p:nvGrpSpPr>
        <p:grpSpPr>
          <a:xfrm>
            <a:off x="1066680" y="36360"/>
            <a:ext cx="8034480" cy="957240"/>
            <a:chOff x="1066680" y="36360"/>
            <a:chExt cx="8034480" cy="957240"/>
          </a:xfrm>
        </p:grpSpPr>
        <p:pic>
          <p:nvPicPr>
            <p:cNvPr id="239" name="TextBox 8" descr=""/>
            <p:cNvPicPr/>
            <p:nvPr/>
          </p:nvPicPr>
          <p:blipFill>
            <a:blip r:embed="rId3"/>
            <a:stretch/>
          </p:blipFill>
          <p:spPr>
            <a:xfrm>
              <a:off x="1066680" y="36360"/>
              <a:ext cx="8034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119240" y="8424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"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TextBox 10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242" name="TextBox 10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47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1539000" y="1057320"/>
            <a:ext cx="728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 вкладке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Зачисление»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 можете увидеть информацию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числении или отчислении обучающегося из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3" descr=""/>
          <p:cNvPicPr/>
          <p:nvPr/>
        </p:nvPicPr>
        <p:blipFill>
          <a:blip r:embed="rId2"/>
          <a:stretch/>
        </p:blipFill>
        <p:spPr>
          <a:xfrm>
            <a:off x="1889280" y="1981080"/>
            <a:ext cx="6492600" cy="4419720"/>
          </a:xfrm>
          <a:prstGeom prst="rect">
            <a:avLst/>
          </a:prstGeom>
          <a:ln w="0">
            <a:noFill/>
          </a:ln>
        </p:spPr>
      </p:pic>
      <p:grpSp>
        <p:nvGrpSpPr>
          <p:cNvPr id="250" name="TextBox 8"/>
          <p:cNvGrpSpPr/>
          <p:nvPr/>
        </p:nvGrpSpPr>
        <p:grpSpPr>
          <a:xfrm>
            <a:off x="1085760" y="55440"/>
            <a:ext cx="8039160" cy="962280"/>
            <a:chOff x="1085760" y="55440"/>
            <a:chExt cx="8039160" cy="962280"/>
          </a:xfrm>
        </p:grpSpPr>
        <p:pic>
          <p:nvPicPr>
            <p:cNvPr id="251" name="TextBox 8" descr=""/>
            <p:cNvPicPr/>
            <p:nvPr/>
          </p:nvPicPr>
          <p:blipFill>
            <a:blip r:embed="rId3"/>
            <a:stretch/>
          </p:blipFill>
          <p:spPr>
            <a:xfrm>
              <a:off x="1085760" y="55440"/>
              <a:ext cx="803916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143000" y="10476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TextBox 10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254" name="TextBox 10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9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1340640" y="1143000"/>
            <a:ext cx="7605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карточке заявки необходимо проверить указанные програм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группу, на которые ведётся запись. При обнаруж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точности или ошибки, их нужно изменить, выбрав вер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нные из выпадающего сп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2" descr=""/>
          <p:cNvPicPr/>
          <p:nvPr/>
        </p:nvPicPr>
        <p:blipFill>
          <a:blip r:embed="rId2"/>
          <a:stretch/>
        </p:blipFill>
        <p:spPr>
          <a:xfrm>
            <a:off x="1943280" y="2382840"/>
            <a:ext cx="640080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62" name="TextBox 8"/>
          <p:cNvGrpSpPr/>
          <p:nvPr/>
        </p:nvGrpSpPr>
        <p:grpSpPr>
          <a:xfrm>
            <a:off x="1090440" y="60480"/>
            <a:ext cx="8034480" cy="957240"/>
            <a:chOff x="1090440" y="60480"/>
            <a:chExt cx="8034480" cy="957240"/>
          </a:xfrm>
        </p:grpSpPr>
        <p:pic>
          <p:nvPicPr>
            <p:cNvPr id="263" name="TextBox 8" descr=""/>
            <p:cNvPicPr/>
            <p:nvPr/>
          </p:nvPicPr>
          <p:blipFill>
            <a:blip r:embed="rId3"/>
            <a:stretch/>
          </p:blipFill>
          <p:spPr>
            <a:xfrm>
              <a:off x="1090440" y="60480"/>
              <a:ext cx="8034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143000" y="10800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TextBox 10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266" name="TextBox 10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71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1460160" y="1057320"/>
            <a:ext cx="744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рассмотрении заявки необходимо проверить да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явителя – связаться по указанному номеру телефону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дресу электронной почты и уточнить корректность указа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ведений и подачи заявки на обу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2"/>
          <a:stretch/>
        </p:blipFill>
        <p:spPr>
          <a:xfrm>
            <a:off x="1828800" y="2286000"/>
            <a:ext cx="6477120" cy="3936960"/>
          </a:xfrm>
          <a:prstGeom prst="rect">
            <a:avLst/>
          </a:prstGeom>
          <a:ln w="0">
            <a:noFill/>
          </a:ln>
        </p:spPr>
      </p:pic>
      <p:grpSp>
        <p:nvGrpSpPr>
          <p:cNvPr id="274" name="TextBox 8"/>
          <p:cNvGrpSpPr/>
          <p:nvPr/>
        </p:nvGrpSpPr>
        <p:grpSpPr>
          <a:xfrm>
            <a:off x="1085760" y="36360"/>
            <a:ext cx="8039160" cy="957240"/>
            <a:chOff x="1085760" y="36360"/>
            <a:chExt cx="8039160" cy="957240"/>
          </a:xfrm>
        </p:grpSpPr>
        <p:pic>
          <p:nvPicPr>
            <p:cNvPr id="275" name="TextBox 8" descr=""/>
            <p:cNvPicPr/>
            <p:nvPr/>
          </p:nvPicPr>
          <p:blipFill>
            <a:blip r:embed="rId3"/>
            <a:stretch/>
          </p:blipFill>
          <p:spPr>
            <a:xfrm>
              <a:off x="1085760" y="36360"/>
              <a:ext cx="80391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143000" y="8424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TextBox 10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278" name="TextBox 10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83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1369080" y="1057320"/>
            <a:ext cx="7635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явленные ошибки необходимо исправить. Для этого открой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жатием по ФИО представителя контекстное меню, и выбери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манду «Открыть карточку». В открывшемся окне буду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ражены данные пользователя сайта, в которые 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ходимости можно внести корректиро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Рисунок 2" descr=""/>
          <p:cNvPicPr/>
          <p:nvPr/>
        </p:nvPicPr>
        <p:blipFill>
          <a:blip r:embed="rId2"/>
          <a:stretch/>
        </p:blipFill>
        <p:spPr>
          <a:xfrm>
            <a:off x="1866960" y="2651040"/>
            <a:ext cx="6477120" cy="3795840"/>
          </a:xfrm>
          <a:prstGeom prst="rect">
            <a:avLst/>
          </a:prstGeom>
          <a:ln w="0">
            <a:noFill/>
          </a:ln>
        </p:spPr>
      </p:pic>
      <p:grpSp>
        <p:nvGrpSpPr>
          <p:cNvPr id="286" name="TextBox 8"/>
          <p:cNvGrpSpPr/>
          <p:nvPr/>
        </p:nvGrpSpPr>
        <p:grpSpPr>
          <a:xfrm>
            <a:off x="1085760" y="85680"/>
            <a:ext cx="8039160" cy="957240"/>
            <a:chOff x="1085760" y="85680"/>
            <a:chExt cx="8039160" cy="957240"/>
          </a:xfrm>
        </p:grpSpPr>
        <p:pic>
          <p:nvPicPr>
            <p:cNvPr id="287" name="TextBox 8" descr=""/>
            <p:cNvPicPr/>
            <p:nvPr/>
          </p:nvPicPr>
          <p:blipFill>
            <a:blip r:embed="rId3"/>
            <a:stretch/>
          </p:blipFill>
          <p:spPr>
            <a:xfrm>
              <a:off x="1085760" y="85680"/>
              <a:ext cx="80391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143000" y="13176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TextBox 10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290" name="TextBox 10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95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"/>
          <p:cNvSpPr/>
          <p:nvPr/>
        </p:nvSpPr>
        <p:spPr>
          <a:xfrm>
            <a:off x="1312200" y="1057320"/>
            <a:ext cx="76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налогичным образом необходимо проверить данные ребёнка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 же внести корректировки при обнаружении оши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Рисунок 2" descr=""/>
          <p:cNvPicPr/>
          <p:nvPr/>
        </p:nvPicPr>
        <p:blipFill>
          <a:blip r:embed="rId2"/>
          <a:stretch/>
        </p:blipFill>
        <p:spPr>
          <a:xfrm>
            <a:off x="1890720" y="2004840"/>
            <a:ext cx="6491160" cy="4434120"/>
          </a:xfrm>
          <a:prstGeom prst="rect">
            <a:avLst/>
          </a:prstGeom>
          <a:ln w="0">
            <a:noFill/>
          </a:ln>
        </p:spPr>
      </p:pic>
      <p:grpSp>
        <p:nvGrpSpPr>
          <p:cNvPr id="298" name="TextBox 8"/>
          <p:cNvGrpSpPr/>
          <p:nvPr/>
        </p:nvGrpSpPr>
        <p:grpSpPr>
          <a:xfrm>
            <a:off x="1073160" y="60480"/>
            <a:ext cx="8034480" cy="957240"/>
            <a:chOff x="1073160" y="60480"/>
            <a:chExt cx="8034480" cy="957240"/>
          </a:xfrm>
        </p:grpSpPr>
        <p:pic>
          <p:nvPicPr>
            <p:cNvPr id="299" name="TextBox 8" descr=""/>
            <p:cNvPicPr/>
            <p:nvPr/>
          </p:nvPicPr>
          <p:blipFill>
            <a:blip r:embed="rId3"/>
            <a:stretch/>
          </p:blipFill>
          <p:spPr>
            <a:xfrm>
              <a:off x="1073160" y="60480"/>
              <a:ext cx="8034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1128600" y="106200"/>
              <a:ext cx="7925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TextBox 10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302" name="TextBox 10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bject 6"/>
          <p:cNvSpPr/>
          <p:nvPr/>
        </p:nvSpPr>
        <p:spPr>
          <a:xfrm>
            <a:off x="430200" y="6421320"/>
            <a:ext cx="17316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3306-89B3-433A-9727-EF85261CF6E6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2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1295280" y="1197000"/>
            <a:ext cx="762012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Verdana"/>
              </a:rPr>
              <a:t>Региональная информационная система «Навигатор дополнительного образования Омской области» (далее – РИС «Навигатор»)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– это инструмент, призванный повысить доступность и удобство взаимодействия между родителями и образовательными организациями в системе дополнительного образов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дной из основных составляющих такого взаимодейств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является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дача родителем (законным представителем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бучающегося заявки на включение его в ту или иную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бразовательную программу. Для их обработки РИС «Навигатор» предусматривает в своём функционале модуль «Заявки», который упрощает данный процес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TextBox 7"/>
          <p:cNvGrpSpPr/>
          <p:nvPr/>
        </p:nvGrpSpPr>
        <p:grpSpPr>
          <a:xfrm>
            <a:off x="1090440" y="55440"/>
            <a:ext cx="8034480" cy="955800"/>
            <a:chOff x="1090440" y="55440"/>
            <a:chExt cx="8034480" cy="955800"/>
          </a:xfrm>
        </p:grpSpPr>
        <p:pic>
          <p:nvPicPr>
            <p:cNvPr id="95" name="TextBox 7" descr=""/>
            <p:cNvPicPr/>
            <p:nvPr/>
          </p:nvPicPr>
          <p:blipFill>
            <a:blip r:embed="rId2"/>
            <a:stretch/>
          </p:blipFill>
          <p:spPr>
            <a:xfrm>
              <a:off x="1090440" y="55440"/>
              <a:ext cx="8034480" cy="95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43000" y="10008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TextBox 9"/>
          <p:cNvGrpSpPr/>
          <p:nvPr/>
        </p:nvGrpSpPr>
        <p:grpSpPr>
          <a:xfrm>
            <a:off x="1047600" y="6461280"/>
            <a:ext cx="8115480" cy="426960"/>
            <a:chOff x="1047600" y="6461280"/>
            <a:chExt cx="8115480" cy="426960"/>
          </a:xfrm>
        </p:grpSpPr>
        <p:pic>
          <p:nvPicPr>
            <p:cNvPr id="98" name="TextBox 9" descr=""/>
            <p:cNvPicPr/>
            <p:nvPr/>
          </p:nvPicPr>
          <p:blipFill>
            <a:blip r:embed="rId3"/>
            <a:stretch/>
          </p:blipFill>
          <p:spPr>
            <a:xfrm>
              <a:off x="1047600" y="6461280"/>
              <a:ext cx="81154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104840" y="649296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4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07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1380960" y="1054080"/>
            <a:ext cx="752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к же, в том случае, если заявитель ошибся в указании ребё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заявке, вы можете выбрать другого ребёнка. Сделать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жно в выпадающем списке, которые откроется при нажат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ответствующей кнопки рядом с Ф.И.О. ребё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4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6476760" cy="3983040"/>
          </a:xfrm>
          <a:prstGeom prst="rect">
            <a:avLst/>
          </a:prstGeom>
          <a:ln w="0">
            <a:noFill/>
          </a:ln>
        </p:spPr>
      </p:pic>
      <p:grpSp>
        <p:nvGrpSpPr>
          <p:cNvPr id="310" name="TextBox 8"/>
          <p:cNvGrpSpPr/>
          <p:nvPr/>
        </p:nvGrpSpPr>
        <p:grpSpPr>
          <a:xfrm>
            <a:off x="1079640" y="30240"/>
            <a:ext cx="8034120" cy="957240"/>
            <a:chOff x="1079640" y="30240"/>
            <a:chExt cx="8034120" cy="957240"/>
          </a:xfrm>
        </p:grpSpPr>
        <p:pic>
          <p:nvPicPr>
            <p:cNvPr id="311" name="TextBox 8" descr=""/>
            <p:cNvPicPr/>
            <p:nvPr/>
          </p:nvPicPr>
          <p:blipFill>
            <a:blip r:embed="rId3"/>
            <a:stretch/>
          </p:blipFill>
          <p:spPr>
            <a:xfrm>
              <a:off x="1079640" y="30240"/>
              <a:ext cx="80341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1133640" y="8100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TextBox 10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314" name="TextBox 10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19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"/>
          <p:cNvSpPr/>
          <p:nvPr/>
        </p:nvSpPr>
        <p:spPr>
          <a:xfrm>
            <a:off x="1403640" y="1057320"/>
            <a:ext cx="739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ам же появится кнопка со знаком плюс, с помощью которо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явку можно добавить ещё одного ребёнка заяви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Рисунок 2" descr=""/>
          <p:cNvPicPr/>
          <p:nvPr/>
        </p:nvPicPr>
        <p:blipFill>
          <a:blip r:embed="rId2"/>
          <a:stretch/>
        </p:blipFill>
        <p:spPr>
          <a:xfrm>
            <a:off x="1936800" y="2119320"/>
            <a:ext cx="6324480" cy="4267080"/>
          </a:xfrm>
          <a:prstGeom prst="rect">
            <a:avLst/>
          </a:prstGeom>
          <a:ln w="0">
            <a:noFill/>
          </a:ln>
        </p:spPr>
      </p:pic>
      <p:grpSp>
        <p:nvGrpSpPr>
          <p:cNvPr id="322" name="TextBox 8"/>
          <p:cNvGrpSpPr/>
          <p:nvPr/>
        </p:nvGrpSpPr>
        <p:grpSpPr>
          <a:xfrm>
            <a:off x="1090440" y="42840"/>
            <a:ext cx="8017200" cy="957240"/>
            <a:chOff x="1090440" y="42840"/>
            <a:chExt cx="8017200" cy="957240"/>
          </a:xfrm>
        </p:grpSpPr>
        <p:pic>
          <p:nvPicPr>
            <p:cNvPr id="323" name="TextBox 8" descr=""/>
            <p:cNvPicPr/>
            <p:nvPr/>
          </p:nvPicPr>
          <p:blipFill>
            <a:blip r:embed="rId3"/>
            <a:stretch/>
          </p:blipFill>
          <p:spPr>
            <a:xfrm>
              <a:off x="1090440" y="42840"/>
              <a:ext cx="80172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1143000" y="88920"/>
              <a:ext cx="7912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TextBox 10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326" name="TextBox 10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31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"/>
          <p:cNvSpPr/>
          <p:nvPr/>
        </p:nvSpPr>
        <p:spPr>
          <a:xfrm>
            <a:off x="1295280" y="914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проверки всех данных заявки, выберите одно из возмож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ействий в нижней части карточ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2" descr=""/>
          <p:cNvPicPr/>
          <p:nvPr/>
        </p:nvPicPr>
        <p:blipFill>
          <a:blip r:embed="rId2"/>
          <a:stretch/>
        </p:blipFill>
        <p:spPr>
          <a:xfrm>
            <a:off x="1981080" y="2114640"/>
            <a:ext cx="6324840" cy="4279680"/>
          </a:xfrm>
          <a:prstGeom prst="rect">
            <a:avLst/>
          </a:prstGeom>
          <a:ln w="0">
            <a:noFill/>
          </a:ln>
        </p:spPr>
      </p:pic>
      <p:grpSp>
        <p:nvGrpSpPr>
          <p:cNvPr id="334" name="TextBox 8"/>
          <p:cNvGrpSpPr/>
          <p:nvPr/>
        </p:nvGrpSpPr>
        <p:grpSpPr>
          <a:xfrm>
            <a:off x="1090440" y="-49320"/>
            <a:ext cx="8109000" cy="957240"/>
            <a:chOff x="1090440" y="-49320"/>
            <a:chExt cx="8109000" cy="957240"/>
          </a:xfrm>
        </p:grpSpPr>
        <p:pic>
          <p:nvPicPr>
            <p:cNvPr id="335" name="TextBox 8" descr=""/>
            <p:cNvPicPr/>
            <p:nvPr/>
          </p:nvPicPr>
          <p:blipFill>
            <a:blip r:embed="rId3"/>
            <a:stretch/>
          </p:blipFill>
          <p:spPr>
            <a:xfrm>
              <a:off x="1090440" y="-49320"/>
              <a:ext cx="81090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1143000" y="0"/>
              <a:ext cx="8001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TextBox 10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338" name="TextBox 10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43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"/>
          <p:cNvSpPr/>
          <p:nvPr/>
        </p:nvSpPr>
        <p:spPr>
          <a:xfrm>
            <a:off x="1323000" y="944640"/>
            <a:ext cx="7562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менит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отмена поданной заявки. Появится окно, гд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брав причину, необходимо подтвердить отмену. После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атус заявки изменяется на «Отменена». При этом ребенок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читается обучающимся, не попадает в Журнал посещаемост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учитывается в статистике. Восстановить отмененную заяв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льз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Рисунок 2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6400800" cy="3587760"/>
          </a:xfrm>
          <a:prstGeom prst="rect">
            <a:avLst/>
          </a:prstGeom>
          <a:ln w="0">
            <a:noFill/>
          </a:ln>
        </p:spPr>
      </p:pic>
      <p:grpSp>
        <p:nvGrpSpPr>
          <p:cNvPr id="346" name="TextBox 8"/>
          <p:cNvGrpSpPr/>
          <p:nvPr/>
        </p:nvGrpSpPr>
        <p:grpSpPr>
          <a:xfrm>
            <a:off x="1042920" y="36360"/>
            <a:ext cx="8034480" cy="957240"/>
            <a:chOff x="1042920" y="36360"/>
            <a:chExt cx="8034480" cy="957240"/>
          </a:xfrm>
        </p:grpSpPr>
        <p:pic>
          <p:nvPicPr>
            <p:cNvPr id="347" name="TextBox 8" descr=""/>
            <p:cNvPicPr/>
            <p:nvPr/>
          </p:nvPicPr>
          <p:blipFill>
            <a:blip r:embed="rId3"/>
            <a:stretch/>
          </p:blipFill>
          <p:spPr>
            <a:xfrm>
              <a:off x="1042920" y="36360"/>
              <a:ext cx="8034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1096920" y="8424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TextBox 10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350" name="TextBox 10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55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"/>
          <p:cNvSpPr/>
          <p:nvPr/>
        </p:nvSpPr>
        <p:spPr>
          <a:xfrm>
            <a:off x="1071720" y="1071720"/>
            <a:ext cx="814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ложить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отложить рассмотрение заявки – появится окно, 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ходимо указать на какой срок рассмотрение заявки буд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ложено. Статус заявки меняется на «Отложена», по исте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казанного срока, статус изменится снова на «Нова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Рисунок 2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4952880" cy="36018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1"/>
          <p:cNvSpPr/>
          <p:nvPr/>
        </p:nvSpPr>
        <p:spPr>
          <a:xfrm>
            <a:off x="6267240" y="2333520"/>
            <a:ext cx="2914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лучае если вам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далось связаться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ставителе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казан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нтактным дан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ли представ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просил перезвон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бы заявка 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лекала, 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обходимо отлож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TextBox 9"/>
          <p:cNvGrpSpPr/>
          <p:nvPr/>
        </p:nvGrpSpPr>
        <p:grpSpPr>
          <a:xfrm>
            <a:off x="1090440" y="36360"/>
            <a:ext cx="8034480" cy="957240"/>
            <a:chOff x="1090440" y="36360"/>
            <a:chExt cx="8034480" cy="957240"/>
          </a:xfrm>
        </p:grpSpPr>
        <p:pic>
          <p:nvPicPr>
            <p:cNvPr id="360" name="TextBox 9" descr=""/>
            <p:cNvPicPr/>
            <p:nvPr/>
          </p:nvPicPr>
          <p:blipFill>
            <a:blip r:embed="rId3"/>
            <a:stretch/>
          </p:blipFill>
          <p:spPr>
            <a:xfrm>
              <a:off x="1090440" y="36360"/>
              <a:ext cx="8034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1143000" y="8424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Box 11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363" name="TextBox 11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68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"/>
          <p:cNvSpPr/>
          <p:nvPr/>
        </p:nvSpPr>
        <p:spPr>
          <a:xfrm>
            <a:off x="1299600" y="915840"/>
            <a:ext cx="739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твердит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подтверждение записи. Ребенок, указанный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явке,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удет проходить обучение по выбранной програм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статус заявки меняется на «Подтверждена»), ФИО реб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падает в журнал посещаемости выбранной группы, ребе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ывается в статистике как вовлеченный в дополнитель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Рисунок 2" descr=""/>
          <p:cNvPicPr/>
          <p:nvPr/>
        </p:nvPicPr>
        <p:blipFill>
          <a:blip r:embed="rId2"/>
          <a:stretch/>
        </p:blipFill>
        <p:spPr>
          <a:xfrm>
            <a:off x="1879560" y="2687760"/>
            <a:ext cx="6527880" cy="3733560"/>
          </a:xfrm>
          <a:prstGeom prst="rect">
            <a:avLst/>
          </a:prstGeom>
          <a:ln w="0">
            <a:noFill/>
          </a:ln>
        </p:spPr>
      </p:pic>
      <p:grpSp>
        <p:nvGrpSpPr>
          <p:cNvPr id="371" name="TextBox 9"/>
          <p:cNvGrpSpPr/>
          <p:nvPr/>
        </p:nvGrpSpPr>
        <p:grpSpPr>
          <a:xfrm>
            <a:off x="1090440" y="30240"/>
            <a:ext cx="8034480" cy="957240"/>
            <a:chOff x="1090440" y="30240"/>
            <a:chExt cx="8034480" cy="957240"/>
          </a:xfrm>
        </p:grpSpPr>
        <p:pic>
          <p:nvPicPr>
            <p:cNvPr id="372" name="TextBox 9" descr=""/>
            <p:cNvPicPr/>
            <p:nvPr/>
          </p:nvPicPr>
          <p:blipFill>
            <a:blip r:embed="rId3"/>
            <a:stretch/>
          </p:blipFill>
          <p:spPr>
            <a:xfrm>
              <a:off x="1090440" y="30240"/>
              <a:ext cx="8034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1143000" y="7632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TextBox 8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375" name="TextBox 8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80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"/>
          <p:cNvSpPr/>
          <p:nvPr/>
        </p:nvSpPr>
        <p:spPr>
          <a:xfrm>
            <a:off x="1334520" y="934920"/>
            <a:ext cx="746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подтверждения заявки, вы можете зачислить ребён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учение. Для этого нужно нажать кнопку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Обучается»,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торая появится в левом нижнем углу карточки пос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тверждения зая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Рисунок 2" descr=""/>
          <p:cNvPicPr/>
          <p:nvPr/>
        </p:nvPicPr>
        <p:blipFill>
          <a:blip r:embed="rId2"/>
          <a:stretch/>
        </p:blipFill>
        <p:spPr>
          <a:xfrm>
            <a:off x="1981080" y="2284560"/>
            <a:ext cx="6324840" cy="4219560"/>
          </a:xfrm>
          <a:prstGeom prst="rect">
            <a:avLst/>
          </a:prstGeom>
          <a:ln w="0">
            <a:noFill/>
          </a:ln>
        </p:spPr>
      </p:pic>
      <p:grpSp>
        <p:nvGrpSpPr>
          <p:cNvPr id="383" name="TextBox 8"/>
          <p:cNvGrpSpPr/>
          <p:nvPr/>
        </p:nvGrpSpPr>
        <p:grpSpPr>
          <a:xfrm>
            <a:off x="1054080" y="55440"/>
            <a:ext cx="8023320" cy="962280"/>
            <a:chOff x="1054080" y="55440"/>
            <a:chExt cx="8023320" cy="962280"/>
          </a:xfrm>
        </p:grpSpPr>
        <p:pic>
          <p:nvPicPr>
            <p:cNvPr id="384" name="TextBox 8" descr=""/>
            <p:cNvPicPr/>
            <p:nvPr/>
          </p:nvPicPr>
          <p:blipFill>
            <a:blip r:embed="rId3"/>
            <a:stretch/>
          </p:blipFill>
          <p:spPr>
            <a:xfrm>
              <a:off x="1054080" y="55440"/>
              <a:ext cx="802332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1109520" y="104760"/>
              <a:ext cx="791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TextBox 10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387" name="TextBox 10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92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1"/>
          <p:cNvSpPr/>
          <p:nvPr/>
        </p:nvSpPr>
        <p:spPr>
          <a:xfrm>
            <a:off x="1380600" y="957240"/>
            <a:ext cx="76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тем вам необходимо указать реквизиты приказа о зачисл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бёнка. После этого Ф.И.О. ребёнка появится в журна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ещаемости соответствующей учебной 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2" descr=""/>
          <p:cNvPicPr/>
          <p:nvPr/>
        </p:nvPicPr>
        <p:blipFill>
          <a:blip r:embed="rId2"/>
          <a:stretch/>
        </p:blipFill>
        <p:spPr>
          <a:xfrm>
            <a:off x="1981080" y="2097000"/>
            <a:ext cx="6324840" cy="4343400"/>
          </a:xfrm>
          <a:prstGeom prst="rect">
            <a:avLst/>
          </a:prstGeom>
          <a:ln w="0">
            <a:noFill/>
          </a:ln>
        </p:spPr>
      </p:pic>
      <p:grpSp>
        <p:nvGrpSpPr>
          <p:cNvPr id="395" name="TextBox 8"/>
          <p:cNvGrpSpPr/>
          <p:nvPr/>
        </p:nvGrpSpPr>
        <p:grpSpPr>
          <a:xfrm>
            <a:off x="1085760" y="79200"/>
            <a:ext cx="8034480" cy="957600"/>
            <a:chOff x="1085760" y="79200"/>
            <a:chExt cx="8034480" cy="957600"/>
          </a:xfrm>
        </p:grpSpPr>
        <p:pic>
          <p:nvPicPr>
            <p:cNvPr id="396" name="TextBox 8" descr=""/>
            <p:cNvPicPr/>
            <p:nvPr/>
          </p:nvPicPr>
          <p:blipFill>
            <a:blip r:embed="rId3"/>
            <a:stretch/>
          </p:blipFill>
          <p:spPr>
            <a:xfrm>
              <a:off x="1085760" y="79200"/>
              <a:ext cx="8034480" cy="9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1138320" y="12708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TextBox 10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399" name="TextBox 10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404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"/>
          <p:cNvSpPr/>
          <p:nvPr/>
        </p:nvSpPr>
        <p:spPr>
          <a:xfrm>
            <a:off x="1306080" y="876240"/>
            <a:ext cx="767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принятия решения об обработке заявки нужно наж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у из кнопок в правом нижнем углу карточк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хранит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сохраняет все внесённые изменения и статус зая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крыть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– закрывает карточку заявки, при внес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рректировок предлагает сохранить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2" descr=""/>
          <p:cNvPicPr/>
          <p:nvPr/>
        </p:nvPicPr>
        <p:blipFill>
          <a:blip r:embed="rId2"/>
          <a:stretch/>
        </p:blipFill>
        <p:spPr>
          <a:xfrm>
            <a:off x="1905120" y="2556000"/>
            <a:ext cx="6400800" cy="3921120"/>
          </a:xfrm>
          <a:prstGeom prst="rect">
            <a:avLst/>
          </a:prstGeom>
          <a:ln w="0">
            <a:noFill/>
          </a:ln>
        </p:spPr>
      </p:pic>
      <p:grpSp>
        <p:nvGrpSpPr>
          <p:cNvPr id="407" name="TextBox 8"/>
          <p:cNvGrpSpPr/>
          <p:nvPr/>
        </p:nvGrpSpPr>
        <p:grpSpPr>
          <a:xfrm>
            <a:off x="1090440" y="23760"/>
            <a:ext cx="8034480" cy="957240"/>
            <a:chOff x="1090440" y="23760"/>
            <a:chExt cx="8034480" cy="957240"/>
          </a:xfrm>
        </p:grpSpPr>
        <p:pic>
          <p:nvPicPr>
            <p:cNvPr id="408" name="TextBox 8" descr=""/>
            <p:cNvPicPr/>
            <p:nvPr/>
          </p:nvPicPr>
          <p:blipFill>
            <a:blip r:embed="rId3"/>
            <a:stretch/>
          </p:blipFill>
          <p:spPr>
            <a:xfrm>
              <a:off x="1090440" y="23760"/>
              <a:ext cx="8034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143000" y="6984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TextBox 9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411" name="TextBox 9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416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TextBox 9"/>
          <p:cNvGrpSpPr/>
          <p:nvPr/>
        </p:nvGrpSpPr>
        <p:grpSpPr>
          <a:xfrm>
            <a:off x="1090440" y="109440"/>
            <a:ext cx="8034480" cy="963720"/>
            <a:chOff x="1090440" y="109440"/>
            <a:chExt cx="8034480" cy="963720"/>
          </a:xfrm>
        </p:grpSpPr>
        <p:pic>
          <p:nvPicPr>
            <p:cNvPr id="418" name="TextBox 9" descr=""/>
            <p:cNvPicPr/>
            <p:nvPr/>
          </p:nvPicPr>
          <p:blipFill>
            <a:blip r:embed="rId2"/>
            <a:stretch/>
          </p:blipFill>
          <p:spPr>
            <a:xfrm>
              <a:off x="1090440" y="109440"/>
              <a:ext cx="803448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43000" y="16020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Box 7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421" name="TextBox 7" descr=""/>
            <p:cNvPicPr/>
            <p:nvPr/>
          </p:nvPicPr>
          <p:blipFill>
            <a:blip r:embed="rId3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Прямоугольник 1"/>
          <p:cNvSpPr/>
          <p:nvPr/>
        </p:nvSpPr>
        <p:spPr>
          <a:xfrm>
            <a:off x="1486080" y="1684440"/>
            <a:ext cx="723888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По вопросам  работы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РЕГИОНАЛЬНОЙ ИНФОРМАЦИОННОЙ СИСТЕМЕ «НАВИГАТОР ДОПОЛНИТЕЛЬНОГО ОБРАЗОВАНИЯ ОМСКОЙ ОБЛАСТ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Вы можете обратиться в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БУ ОО ДО «ЦДНВ «Исток»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 - </a:t>
            </a: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Региональный модельный центр дополнительного образования де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Омской области (РМЦ ДОД Омской обла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лефон: (3812) 45-09-2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-mail: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stok_achair@mail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АЙТ РМЦ ДОД Омской области: </a:t>
            </a:r>
            <a:r>
              <a:rPr b="0" lang="en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rmc55.omsk.obr55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bject 6"/>
          <p:cNvSpPr/>
          <p:nvPr/>
        </p:nvSpPr>
        <p:spPr>
          <a:xfrm>
            <a:off x="380880" y="6421320"/>
            <a:ext cx="255600" cy="1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6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bject 6"/>
          <p:cNvSpPr/>
          <p:nvPr/>
        </p:nvSpPr>
        <p:spPr>
          <a:xfrm>
            <a:off x="430200" y="6421320"/>
            <a:ext cx="17316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222B-4DD2-48AB-8D3C-8C88EAF3E32B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ject 5"/>
          <p:cNvSpPr/>
          <p:nvPr/>
        </p:nvSpPr>
        <p:spPr>
          <a:xfrm>
            <a:off x="1143000" y="1143000"/>
            <a:ext cx="76960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840" bIns="0" anchor="t">
            <a:spAutoFit/>
          </a:bodyPr>
          <a:p>
            <a:pPr marL="12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Для обработки заявок на обучение по программам дополнительного образования, поступающих от родителей (законных представителей) детей, необходимо на главной странице административной панели РИС «Навигатор»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Verdana"/>
                <a:ea typeface="Verdana"/>
              </a:rPr>
              <a:t>https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Verdana"/>
                <a:ea typeface="Verdana"/>
              </a:rPr>
              <a:t>://админка55.навигатор.де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) выбрать раздел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«Заявки»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04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rcRect l="0" t="0" r="35969" b="0"/>
          <a:stretch/>
        </p:blipFill>
        <p:spPr>
          <a:xfrm>
            <a:off x="1905120" y="2820960"/>
            <a:ext cx="6324480" cy="3591000"/>
          </a:xfrm>
          <a:prstGeom prst="rect">
            <a:avLst/>
          </a:prstGeom>
          <a:ln w="0">
            <a:noFill/>
          </a:ln>
        </p:spPr>
      </p:pic>
      <p:grpSp>
        <p:nvGrpSpPr>
          <p:cNvPr id="106" name="TextBox 8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107" name="TextBox 8" descr=""/>
            <p:cNvPicPr/>
            <p:nvPr/>
          </p:nvPicPr>
          <p:blipFill>
            <a:blip r:embed="rId3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TextBox 9"/>
          <p:cNvGrpSpPr/>
          <p:nvPr/>
        </p:nvGrpSpPr>
        <p:grpSpPr>
          <a:xfrm>
            <a:off x="1090440" y="42840"/>
            <a:ext cx="8034480" cy="957240"/>
            <a:chOff x="1090440" y="42840"/>
            <a:chExt cx="8034480" cy="957240"/>
          </a:xfrm>
        </p:grpSpPr>
        <p:pic>
          <p:nvPicPr>
            <p:cNvPr id="110" name="TextBox 9" descr=""/>
            <p:cNvPicPr/>
            <p:nvPr/>
          </p:nvPicPr>
          <p:blipFill>
            <a:blip r:embed="rId4"/>
            <a:stretch/>
          </p:blipFill>
          <p:spPr>
            <a:xfrm>
              <a:off x="1090440" y="42840"/>
              <a:ext cx="8034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143000" y="88920"/>
              <a:ext cx="792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bject 6"/>
          <p:cNvSpPr/>
          <p:nvPr/>
        </p:nvSpPr>
        <p:spPr>
          <a:xfrm>
            <a:off x="430200" y="6421320"/>
            <a:ext cx="17316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7C72-1444-4F90-9DF6-0F165F24FA73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15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1424520" y="1338120"/>
            <a:ext cx="720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открывшемся окне вы сможете увидеть список всех заяво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упивших в ваше учрежд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TextBox 8"/>
          <p:cNvGrpSpPr/>
          <p:nvPr/>
        </p:nvGrpSpPr>
        <p:grpSpPr>
          <a:xfrm>
            <a:off x="1090440" y="128520"/>
            <a:ext cx="7877520" cy="957240"/>
            <a:chOff x="1090440" y="128520"/>
            <a:chExt cx="7877520" cy="957240"/>
          </a:xfrm>
        </p:grpSpPr>
        <p:pic>
          <p:nvPicPr>
            <p:cNvPr id="118" name="TextBox 8" descr=""/>
            <p:cNvPicPr/>
            <p:nvPr/>
          </p:nvPicPr>
          <p:blipFill>
            <a:blip r:embed="rId2"/>
            <a:stretch/>
          </p:blipFill>
          <p:spPr>
            <a:xfrm>
              <a:off x="1090440" y="128520"/>
              <a:ext cx="78775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143000" y="173160"/>
              <a:ext cx="7770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TextBox 9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121" name="TextBox 9" descr=""/>
            <p:cNvPicPr/>
            <p:nvPr/>
          </p:nvPicPr>
          <p:blipFill>
            <a:blip r:embed="rId3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Рисунок 1" descr=""/>
          <p:cNvPicPr/>
          <p:nvPr/>
        </p:nvPicPr>
        <p:blipFill>
          <a:blip r:embed="rId4"/>
          <a:stretch/>
        </p:blipFill>
        <p:spPr>
          <a:xfrm>
            <a:off x="1138320" y="2406600"/>
            <a:ext cx="7913520" cy="3308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object 6"/>
          <p:cNvSpPr/>
          <p:nvPr/>
        </p:nvSpPr>
        <p:spPr>
          <a:xfrm>
            <a:off x="430200" y="6421320"/>
            <a:ext cx="17316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716B-573C-48C9-8899-ACF6DE2091FB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27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1415160" y="1368360"/>
            <a:ext cx="763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ее, вам необходимо выбрать раздел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Статус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и в нё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ановить фильтр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Новая»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- данное действие позволит в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видеть список всех поступивших заявок, требующих обрабо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TextBox 8"/>
          <p:cNvGrpSpPr/>
          <p:nvPr/>
        </p:nvGrpSpPr>
        <p:grpSpPr>
          <a:xfrm>
            <a:off x="1073160" y="109440"/>
            <a:ext cx="7974000" cy="957240"/>
            <a:chOff x="1073160" y="109440"/>
            <a:chExt cx="7974000" cy="957240"/>
          </a:xfrm>
        </p:grpSpPr>
        <p:pic>
          <p:nvPicPr>
            <p:cNvPr id="130" name="TextBox 8" descr=""/>
            <p:cNvPicPr/>
            <p:nvPr/>
          </p:nvPicPr>
          <p:blipFill>
            <a:blip r:embed="rId2"/>
            <a:stretch/>
          </p:blipFill>
          <p:spPr>
            <a:xfrm>
              <a:off x="1073160" y="109440"/>
              <a:ext cx="79740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128600" y="155520"/>
              <a:ext cx="7863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TextBox 9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133" name="TextBox 9" descr=""/>
            <p:cNvPicPr/>
            <p:nvPr/>
          </p:nvPicPr>
          <p:blipFill>
            <a:blip r:embed="rId3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Рисунок 1" descr=""/>
          <p:cNvPicPr/>
          <p:nvPr/>
        </p:nvPicPr>
        <p:blipFill>
          <a:blip r:embed="rId4"/>
          <a:stretch/>
        </p:blipFill>
        <p:spPr>
          <a:xfrm>
            <a:off x="1219320" y="2414520"/>
            <a:ext cx="7824600" cy="3300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bject 6"/>
          <p:cNvSpPr/>
          <p:nvPr/>
        </p:nvSpPr>
        <p:spPr>
          <a:xfrm>
            <a:off x="430200" y="6421320"/>
            <a:ext cx="17316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8AC0-538C-4B7F-A943-1D87A89FC09D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39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1362240" y="1355760"/>
            <a:ext cx="73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берите одну из заявок щелчком мыши по соответству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роке – перед вами откроется окно карточки заяв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TextBox 8"/>
          <p:cNvGrpSpPr/>
          <p:nvPr/>
        </p:nvGrpSpPr>
        <p:grpSpPr>
          <a:xfrm>
            <a:off x="1054080" y="128520"/>
            <a:ext cx="7993080" cy="957240"/>
            <a:chOff x="1054080" y="128520"/>
            <a:chExt cx="7993080" cy="957240"/>
          </a:xfrm>
        </p:grpSpPr>
        <p:pic>
          <p:nvPicPr>
            <p:cNvPr id="142" name="TextBox 8" descr=""/>
            <p:cNvPicPr/>
            <p:nvPr/>
          </p:nvPicPr>
          <p:blipFill>
            <a:blip r:embed="rId2"/>
            <a:stretch/>
          </p:blipFill>
          <p:spPr>
            <a:xfrm>
              <a:off x="1054080" y="128520"/>
              <a:ext cx="79930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109520" y="174600"/>
              <a:ext cx="7882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TextBox 9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145" name="TextBox 9" descr=""/>
            <p:cNvPicPr/>
            <p:nvPr/>
          </p:nvPicPr>
          <p:blipFill>
            <a:blip r:embed="rId3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Рисунок 1" descr=""/>
          <p:cNvPicPr/>
          <p:nvPr/>
        </p:nvPicPr>
        <p:blipFill>
          <a:blip r:embed="rId4"/>
          <a:stretch/>
        </p:blipFill>
        <p:spPr>
          <a:xfrm>
            <a:off x="1109520" y="2205000"/>
            <a:ext cx="7963200" cy="3586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object 6"/>
          <p:cNvSpPr/>
          <p:nvPr/>
        </p:nvSpPr>
        <p:spPr>
          <a:xfrm>
            <a:off x="430200" y="6421320"/>
            <a:ext cx="17316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D9A4-C989-4715-B6FB-C93672060056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51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"/>
          <p:cNvSpPr/>
          <p:nvPr/>
        </p:nvSpPr>
        <p:spPr>
          <a:xfrm>
            <a:off x="1373040" y="1287360"/>
            <a:ext cx="695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авом верхнем углу окна вы можете увидеть стату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тупившей заявки – по умолчанию, все необработа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явки носят статус «Нова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1" descr=""/>
          <p:cNvPicPr/>
          <p:nvPr/>
        </p:nvPicPr>
        <p:blipFill>
          <a:blip r:embed="rId2"/>
          <a:stretch/>
        </p:blipFill>
        <p:spPr>
          <a:xfrm>
            <a:off x="1828800" y="2316240"/>
            <a:ext cx="6477120" cy="4105080"/>
          </a:xfrm>
          <a:prstGeom prst="rect">
            <a:avLst/>
          </a:prstGeom>
          <a:ln w="0">
            <a:noFill/>
          </a:ln>
        </p:spPr>
      </p:pic>
      <p:grpSp>
        <p:nvGrpSpPr>
          <p:cNvPr id="154" name="TextBox 8"/>
          <p:cNvGrpSpPr/>
          <p:nvPr/>
        </p:nvGrpSpPr>
        <p:grpSpPr>
          <a:xfrm>
            <a:off x="1090440" y="30240"/>
            <a:ext cx="7956720" cy="963360"/>
            <a:chOff x="1090440" y="30240"/>
            <a:chExt cx="7956720" cy="963360"/>
          </a:xfrm>
        </p:grpSpPr>
        <p:pic>
          <p:nvPicPr>
            <p:cNvPr id="155" name="TextBox 8" descr=""/>
            <p:cNvPicPr/>
            <p:nvPr/>
          </p:nvPicPr>
          <p:blipFill>
            <a:blip r:embed="rId3"/>
            <a:stretch/>
          </p:blipFill>
          <p:spPr>
            <a:xfrm>
              <a:off x="1090440" y="30240"/>
              <a:ext cx="7956720" cy="96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1143000" y="81000"/>
              <a:ext cx="7848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TextBox 9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158" name="TextBox 9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bject 6"/>
          <p:cNvSpPr/>
          <p:nvPr/>
        </p:nvSpPr>
        <p:spPr>
          <a:xfrm>
            <a:off x="430200" y="6421320"/>
            <a:ext cx="17316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AA24-1154-4DC0-89C0-713916A64B25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63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"/>
          <p:cNvSpPr/>
          <p:nvPr/>
        </p:nvSpPr>
        <p:spPr>
          <a:xfrm>
            <a:off x="1576800" y="1305000"/>
            <a:ext cx="655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карточке заявки отображается  кратка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 учебной групп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1290600" y="192240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Учреждение дополнительного образования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6" descr=""/>
          <p:cNvPicPr/>
          <p:nvPr/>
        </p:nvPicPr>
        <p:blipFill>
          <a:blip r:embed="rId2"/>
          <a:stretch/>
        </p:blipFill>
        <p:spPr>
          <a:xfrm>
            <a:off x="1981080" y="2604960"/>
            <a:ext cx="6437520" cy="3843360"/>
          </a:xfrm>
          <a:prstGeom prst="rect">
            <a:avLst/>
          </a:prstGeom>
          <a:ln w="0">
            <a:noFill/>
          </a:ln>
        </p:spPr>
      </p:pic>
      <p:grpSp>
        <p:nvGrpSpPr>
          <p:cNvPr id="167" name="TextBox 10"/>
          <p:cNvGrpSpPr/>
          <p:nvPr/>
        </p:nvGrpSpPr>
        <p:grpSpPr>
          <a:xfrm>
            <a:off x="1090440" y="92160"/>
            <a:ext cx="7956720" cy="961920"/>
            <a:chOff x="1090440" y="92160"/>
            <a:chExt cx="7956720" cy="961920"/>
          </a:xfrm>
        </p:grpSpPr>
        <p:pic>
          <p:nvPicPr>
            <p:cNvPr id="168" name="TextBox 10" descr=""/>
            <p:cNvPicPr/>
            <p:nvPr/>
          </p:nvPicPr>
          <p:blipFill>
            <a:blip r:embed="rId3"/>
            <a:stretch/>
          </p:blipFill>
          <p:spPr>
            <a:xfrm>
              <a:off x="1090440" y="92160"/>
              <a:ext cx="795672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143000" y="141120"/>
              <a:ext cx="7848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TextBox 9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171" name="TextBox 9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object 6"/>
          <p:cNvSpPr/>
          <p:nvPr/>
        </p:nvSpPr>
        <p:spPr>
          <a:xfrm>
            <a:off x="430200" y="6421320"/>
            <a:ext cx="17316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spAutoFit/>
          </a:bodyPr>
          <a:p>
            <a:pPr marL="3816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4EF6-D65F-4D46-AB78-E2214E4982C0}" type="slidenum">
              <a:rPr b="0" lang="ru-RU" sz="12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5" descr="C:\Users\755E~1\AppData\Local\Temp\Rar$DIa6856.34031\Эмб. непроз., герб большой.jpeg"/>
          <p:cNvPicPr/>
          <p:nvPr/>
        </p:nvPicPr>
        <p:blipFill>
          <a:blip r:embed="rId1"/>
          <a:stretch/>
        </p:blipFill>
        <p:spPr>
          <a:xfrm>
            <a:off x="763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76" name="object 3"/>
          <p:cNvSpPr/>
          <p:nvPr/>
        </p:nvSpPr>
        <p:spPr>
          <a:xfrm>
            <a:off x="152280" y="1057320"/>
            <a:ext cx="69552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8360" bIns="0" anchor="t">
            <a:spAutoFit/>
          </a:bodyPr>
          <a:p>
            <a:pPr marL="12600" indent="85680" algn="ctr">
              <a:lnSpc>
                <a:spcPct val="98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  <a:ea typeface="Arial"/>
              </a:rPr>
              <a:t>РМЦ ДОД Ом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1454760" y="1309680"/>
            <a:ext cx="649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Название программы дополните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4" descr=""/>
          <p:cNvPicPr/>
          <p:nvPr/>
        </p:nvPicPr>
        <p:blipFill>
          <a:blip r:embed="rId2"/>
          <a:stretch/>
        </p:blipFill>
        <p:spPr>
          <a:xfrm>
            <a:off x="1684440" y="2127240"/>
            <a:ext cx="6813360" cy="4294080"/>
          </a:xfrm>
          <a:prstGeom prst="rect">
            <a:avLst/>
          </a:prstGeom>
          <a:ln w="0">
            <a:noFill/>
          </a:ln>
        </p:spPr>
      </p:pic>
      <p:grpSp>
        <p:nvGrpSpPr>
          <p:cNvPr id="179" name="TextBox 9"/>
          <p:cNvGrpSpPr/>
          <p:nvPr/>
        </p:nvGrpSpPr>
        <p:grpSpPr>
          <a:xfrm>
            <a:off x="1085760" y="36360"/>
            <a:ext cx="7954920" cy="957240"/>
            <a:chOff x="1085760" y="36360"/>
            <a:chExt cx="7954920" cy="957240"/>
          </a:xfrm>
        </p:grpSpPr>
        <p:pic>
          <p:nvPicPr>
            <p:cNvPr id="180" name="TextBox 9" descr=""/>
            <p:cNvPicPr/>
            <p:nvPr/>
          </p:nvPicPr>
          <p:blipFill>
            <a:blip r:embed="rId3"/>
            <a:stretch/>
          </p:blipFill>
          <p:spPr>
            <a:xfrm>
              <a:off x="1085760" y="36360"/>
              <a:ext cx="79549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138320" y="84240"/>
              <a:ext cx="7848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Методические рекомендации по работе с модулем «Заявки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Verdana"/>
                </a:rPr>
                <a:t>РИС «Навигатор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TextBox 8"/>
          <p:cNvGrpSpPr/>
          <p:nvPr/>
        </p:nvGrpSpPr>
        <p:grpSpPr>
          <a:xfrm>
            <a:off x="1090440" y="6523200"/>
            <a:ext cx="8109000" cy="426960"/>
            <a:chOff x="1090440" y="6523200"/>
            <a:chExt cx="8109000" cy="426960"/>
          </a:xfrm>
        </p:grpSpPr>
        <p:pic>
          <p:nvPicPr>
            <p:cNvPr id="183" name="TextBox 8" descr=""/>
            <p:cNvPicPr/>
            <p:nvPr/>
          </p:nvPicPr>
          <p:blipFill>
            <a:blip r:embed="rId4"/>
            <a:stretch/>
          </p:blipFill>
          <p:spPr>
            <a:xfrm>
              <a:off x="1090440" y="6523200"/>
              <a:ext cx="8109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143000" y="6553080"/>
              <a:ext cx="80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Verdana"/>
                </a:rPr>
                <a:t>Воробьев Никита Александрович, методист РМЦ ДОД Омской обла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6" descr="C:\Users\пользователь\Desktop\РМЦ - Эмблемы_Бренд-бук_Логотипы_Шаблоны\Логотип РМЦ - 2020.08.14\Непрозрачная.png"/>
          <p:cNvPicPr/>
          <p:nvPr/>
        </p:nvPicPr>
        <p:blipFill>
          <a:blip r:embed="rId5"/>
          <a:stretch/>
        </p:blipFill>
        <p:spPr>
          <a:xfrm>
            <a:off x="76320" y="95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2T16:03:36Z</dcterms:created>
  <dc:creator>пользователь</dc:creator>
  <dc:description/>
  <dc:language>en-US</dc:language>
  <cp:lastModifiedBy>User</cp:lastModifiedBy>
  <dcterms:modified xsi:type="dcterms:W3CDTF">2020-08-17T04:14:33Z</dcterms:modified>
  <cp:revision>5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1-22T00:00:00Z</vt:filetime>
  </property>
  <property fmtid="{D5CDD505-2E9C-101B-9397-08002B2CF9AE}" pid="3" name="LastSaved">
    <vt:filetime>2020-01-22T00:00:00Z</vt:filetime>
  </property>
</Properties>
</file>